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5F8-A6C2-4788-A7FE-465A42A0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B02-9171-435A-A964-AECECBCC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A9F-726C-4535-A916-26A7F929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0A5-2892-4465-8078-E3D50A5E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F37-B999-43DE-BA6B-6D74A8D3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3EF-0301-4235-98F7-CD0F5772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1A5-D00F-462F-8531-9098B6F5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EE0-8458-47D1-9674-69DACD9A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F26-94D8-45D9-B62F-857ACF8F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060-97CF-4FC2-836A-670FB29E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88D-F93C-45AD-8135-0CE60C24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155-F7D3-4011-B833-83F79AF0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8D6199-CC44-46BC-8201-92365A3F7CA1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aditional and Modern Approaches to Modelling with R: An Advanced Cour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ll Venables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SIRO, Cleveland, Australia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2007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lotting the resul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g &lt;- range(Hardness, p1, p2, p3, na.rm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Density, Hardness, ylim = rg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1, col=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2, col="blue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3, col="green4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gend(0, 3000, paste("p", 1:3, sep=""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ty = 1, col = c("red", "blue", "green4"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ty = "n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AAE-CD87-4473-AAC6-281F382D31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518-4167-4590-A9B6-71D09A8F565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tability of coeffici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 &lt;- c(mean(janka$Hard), coef(jank.1)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jank.2), coef(jank.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 &lt;- matrix(0, 4, 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[!lower.tri(w)] &lt;- x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imnames(w) &lt;- list(paste("Degree", 0:3)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ste("Model", 0: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und(t(w),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               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Degree 0 Degree 1 Degree 2 Degree 3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0  1469.4722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1 -1160.4997 57.50667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2  -118.0074  9.43402  0.50908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3  -641.4379 46.86373 -0.33117  0.0059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485-C091-4E50-982E-8A8EB85EAA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effect of center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a$d &lt;- scale(janka$Density, scale=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1a &lt;- lm(Hardness ~ d, jank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2a &lt;- update(jank.1a, .~.+I(d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3a &lt;- update(jank.2a, .~.+I(d^3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fitted(jank.3a) - fitted(jank.3))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check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4.547474e-13  4.547474e-1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 &lt;- c(mean(janka$Hard), coef(jank.1a), coef(jank.2a),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oef(jank.3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[!lower.tri(w)] &lt;- x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nd(t(w),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Unicode MS"/>
              </a:rPr>
              <a:t>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egree 0 Degree 1 Degree 2 Degree 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0 1469.472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  0.00000  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1 1469.472 57.50667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  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2 1378.197 55.99764  0.50908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3 1379.103 53.96095  0.48636  0.0059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6F8-22AD-40C3-90DB-01F2AA19403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agnostic plo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janka &lt;- transform(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FittedValue = fitted(jank.2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Residual = resid(jank.2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1 &lt;- xyplot(Residual ~ FittedValue, 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xyplot(x, y, col = "blue"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abline(h = 0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lty = "dashed", col = "red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, las = 0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2 &lt;- qqmath(~Residual, 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qqmath(x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qqmathline(x, x, distribution = qnorm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col = "red", lty = "solid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, las = 0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rint(g1, position = c(0, 0.45, 0.55, 1), mor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rint(g2, position = c(0.45, 0, 1, 0.55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0BC-1297-4D9E-B543-D7AD0CFA832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2A6-47EA-4533-853F-C6A5B2F2E21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ansfor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 transformation may be needed to stabilize the variance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is will also have an effect on the mean and may tend to linearise it as well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brary(MAS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xcox(jank.1, lambda = seq(0, 0.75, len=10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tle(main = "Linear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1t &lt;- update(jank.1, sqrt(.) ~ 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fitted(jank.1t), resid(jank.1t), main = "Linear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line(h = 0, lty="dashed", col="blue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xcox(jank.2, lambda = seq(-0.25, 0.6, len=10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tle(main = "Quadratic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2t &lt;- update(jank.2, log(.) ~ 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fitted(jank.2t), resid(jank.2t), main = "Quadratic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line(h = 0, lty="dashed", col="blue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D3D-8E1D-41D3-ACB3-CBC45702EA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465-0EA3-44E7-A233-C652ACABBAA0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essages so fa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quare-root transformation provides a straight-line relationship, but does not quite make the variance st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~log transformation stabilizes the variance, but still requires a quadratic mode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table variance is much more important than a straight-line relationship, but can we have both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natural model to consider is a generalized linear model with constant coefficient of variation and square-root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se suggest a gamma model.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D58-B492-4222-ABAB-F0A029B1EA5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 from the transform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with(janka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.frame(Density =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q(min(Density), max(Density), len=200)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jank.2t &lt;- predict(jank.2t, new = janka2, se=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u &lt;- qt(0.975, 36 -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with(pjank.2t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nsform(janka2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an = fit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 = fit - tau*se.fit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 = fit + tau*se.fit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ias.corr &lt;- 0.5*sum(resid(jank.2t)^2)/pjank.2t$d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2B6-8DD2-459B-91AD-828C825065F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 and Modelling overview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, cont’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transform(janka2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ardness = exp(mean + bias.corr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per = exp(up + bias.corr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wer = exp(lo + bias.corr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g &lt;- with(janka2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Hardness, lower, upper, janka$Hardne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2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, points(Density, Hardne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631-81A5-48A8-A07B-C9C77912CB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8B8-B9F7-4B68-9213-912A5BCFB2C8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quasi-likelihood GL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jank.glm &lt;- glm(Hardness ~ Density, family =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asi(link = sqrt, variance = "mu^2"), janka, trac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335429 Iterations - 1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3 Iterations - 2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2 Iterations - 3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2 Iterations - 4</a:t>
            </a:r>
            <a:r>
              <a:rPr b="1" lang="fr-FR" sz="12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jank.glm &lt;- predict(jank.glm, newdata = janka2, se.fit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janka3 &lt;- with(pjank.glm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transform(janka2, Hardness = fit^2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lower = (fit - 2*se.fit)^2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upper = (fit+2*se.fit)^2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g &lt;- with(janka3, range(lower, upper, janka$Hardnes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ith(janka3,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ith(janka, points(Density, Hardnes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572-5081-4989-A5BE-D4BEB364CBC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80C-9C53-459E-8B34-0C143943BE90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 from the untransform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jank.2 &lt;- predict(jank.2, new = janka2, se=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au &lt;- qt(0.975, 36 - 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anka2 &lt;- with(pjank.2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ransform(janka2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ardness = fi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pper = fit + tau*se.fi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wer = fit-tau*se.fit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g &lt;- with(janka2, range(lower, upper, janka$Hard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(janka2,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(janka, points(Density, Hardnes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DA2-7507-4CA0-BFCD-113C89726B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3D8-FAB2-4018-A1D8-FB36D65A6B66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284720" y="450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306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306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4136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92720" y="4005000"/>
            <a:ext cx="792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564000" y="3933360"/>
            <a:ext cx="72072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27664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835280" y="2276280"/>
            <a:ext cx="792000" cy="86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716360" y="342900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16720" y="2349360"/>
            <a:ext cx="0" cy="6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119700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112536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234936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4160" y="4781520"/>
            <a:ext cx="26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Linear models (L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28464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1200" y="15811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120" y="1484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040" y="26226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0840" y="32846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N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00400" y="14018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N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/>
          <p:nvPr/>
        </p:nvCxnSpPr>
        <p:spPr>
          <a:xfrm flipV="1">
            <a:off x="1908000" y="1699920"/>
            <a:ext cx="648360" cy="4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12" name=""/>
          <p:cNvSpPr/>
          <p:nvPr/>
        </p:nvSpPr>
        <p:spPr>
          <a:xfrm>
            <a:off x="452160" y="409680"/>
            <a:ext cx="71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eneralizations of Traditional Linear Models: a Road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581360"/>
            <a:ext cx="914400" cy="91440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M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87640" y="5013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9CF-3829-4623-A9E3-B6FD144FA1F9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planation of acrony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cronym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inear Model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m, ao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ultivariate LMs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LM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anov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eneralized LM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l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Mixed Model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me, lmer, ao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on-linear Model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Mixed Model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lm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ized LMM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lmmPQL, lme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eneralized Additive M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A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am (mgcv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92B-5DC3-4B47-A136-0CA6621F30C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atistical modelling: a standpoint and 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ypical modelling situa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 variable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or variables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…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Unavoidable random variation: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Z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~ N(0,1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ceptual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et 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GB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be some point in the range of the data near which we would like to approximate the func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ssuming smoothness, we may do so by the first few terms in a power series expan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24000" y="3933720"/>
          <a:ext cx="518472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933720"/>
                    <a:ext cx="51847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81D-674C-4763-A05E-92FD6AE263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cal approxi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rst order approximation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order approximation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2349360"/>
          <a:ext cx="561672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56167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971640" y="4076640"/>
          <a:ext cx="755964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076640"/>
                    <a:ext cx="75596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8A9-0314-4BFF-9A27-770D7E90D27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ulative conclus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gression models usually have an empirical justification as a local approximation to the response curve or surfac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may only be useful in a close range about the observed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xtending the range of usefulness for the approximation may require some allowance f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(or higher) degree curvature term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teractions between variab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normality of the error structure (skewness/kurtosi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great deal more data than is available!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A6B-0724-4F30-BDA0-51A15E9605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Janka hardness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Arial Unicode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ensity Hardness          Density Hardness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    24.7      484       19    42.9     127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    24.8      427       20    45.8     11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    27.3      413       21    46.9     14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4    28.4      517       22    48.2     17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5    28.4      549       23    51.5     17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6    29.0      648       24    51.5     20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7    30.3      587       25    53.4     18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8    32.7      704       26    56.0     19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9    35.6      979       27    56.5     18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0    38.5      914       28    57.3     20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1    38.8     1070       29    57.6     19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2    39.3     1020       30    59.2     23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3    39.4     1210       31    59.8     194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4    39.9      989       32    66.0     32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5    40.3     1160       33    67.4     27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6    40.6     1010       34    68.8     289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7    40.7     1100       35    69.1     274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8    40.7     1130       36    69.1     3140</a:t>
            </a:r>
            <a:r>
              <a:rPr b="0" lang="en-GB" sz="1200" spc="-1" strike="noStrike">
                <a:solidFill>
                  <a:srgbClr val="000099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with(janka, plot(Density, Hardness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xlim = range(0, Density), ylim = range(0, Hardness)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as=0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199-7892-440C-9A36-7B70D58BF1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0600" y="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876-13A6-4D91-BF4C-E5280409739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initial explor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1 &lt;- lm(Hardness ~ Density, jank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2 &lt;- update(jank.1, .~.+I(Density^2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3 &lt;- update(jank.2, .~.+I(Density^3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rbind(jank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ata.frame(Density = seq(0, 70, length=200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ardness = N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Janka[order(Janka$Density), ] 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# ordered densitie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transform(Janka,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1 = predict(jank.1, Jank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2 = predict(jank.2, Jank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3 = predict(jank.3, Jank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D05-B932-4914-A691-C69115565B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795672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567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18A-6C0E-43A6-A227-6E442FECDD7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6T23:50:50Z</dcterms:modified>
  <cp:revision>28</cp:revision>
  <dc:subject/>
  <dc:title>S-PLUS, An Introduction to the System</dc:title>
</cp:coreProperties>
</file>